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21945465"/>
        <c:axId val="32829078"/>
      </c:barChart>
      <c:catAx>
        <c:axId val="21945465"/>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32829078"/>
        <c:crosses val="autoZero"/>
        <c:auto val="1"/>
        <c:lblAlgn val="ctr"/>
        <c:lblOffset val="100"/>
        <c:noMultiLvlLbl val="0"/>
      </c:catAx>
      <c:valAx>
        <c:axId val="32829078"/>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21945465"/>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861E23-97F3-4A9F-B09A-78DCD596EB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F3CF3-5F9D-459A-A0BD-A27D94C21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F6FE68-F817-4BFD-AAC6-F510FCC8E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3D71DA-0F26-492D-9FD6-94E3DBCC76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AFBA57-5FD6-40FD-89E4-3AE0118DCC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3F268C-882C-4255-A0B8-6E79C10467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593ADA-1C8B-4213-B483-D0D047397C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703E90-4C92-4EC8-A392-9411CDDD39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8A818F-5380-4BEB-8AF9-701F84B28E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7501A8-0E3D-4FF8-A4F7-6D38CD03E8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39C21-6938-4CF9-A3EF-A7F00FE1D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81E74-C542-466F-817C-55DEE3B28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EB8FE-A53F-4AF1-99DC-6CCA0C56D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D0D24-FD91-458A-B9BB-50103B329C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53E318-B0F5-4E42-865A-2E83422371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6DB205-5F54-4DD1-AAAA-05FBBA3D6D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9480EF-7279-41A4-BC28-2D8E7A5B33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B6E19-D4EC-4FBE-B540-1BDC3EC8C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1DC6C-94F6-4B07-8485-D9FCC285C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FB293-0677-4EEB-8D0C-54A7EBCE7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219E2-8218-48D7-992C-DD6CACA54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D1483-F552-4944-A0D1-36FA9C711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06CC8-B4CE-40CA-A376-9DCCC8082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134C6-C9B4-4E1C-BCC7-5C5EC99430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FFC145-2011-4CB0-A612-024DC8DF082E}"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DFEC11-D7EF-4AD1-9137-9B3196351F77}"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